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FAA-12DC-4E91-8394-F91C3B44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A49-1AC3-4CCD-97B8-F9F04366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1A3-7ADC-4D60-90E4-6FAD1937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4ED-B230-4D83-9EB6-C247A8EA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D5A-4101-44BD-AF6B-2C977A4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1AF-1F7D-468B-AC10-C66FD34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02D-8565-4968-8182-CA0B9DE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789-19F3-42CD-BBD6-CE7C2B4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86A-BAD3-4D7D-87EE-604343AA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898-F30E-4399-9B9B-A1EE4BF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66B-F839-458C-A079-EC3108B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1A0-D6F9-43B4-A5A6-0FFBA43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245-9C1D-4FE9-9070-7C41CD13D32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46Z</dcterms:created>
  <dc:creator>Online2PDF.com</dc:creator>
  <dc:description/>
  <dc:language>en-US</dc:language>
  <cp:lastModifiedBy>Online2PDF.com</cp:lastModifiedBy>
  <dcterms:modified xsi:type="dcterms:W3CDTF">2024-01-18T07:23:5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