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602D-3FA6-4FF7-A5F4-C897AF4E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A8DF-43E4-4EB9-B3AC-7937CFE3B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020-0C78-4E01-B2AC-2E346F894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FB69-21D1-43BA-8F69-344B6643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A33-490F-46D5-8B21-FFE86BC8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7148-315A-4869-8E8A-D0E64AFD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FF7-48EC-4843-BFED-80427545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AFD4-C196-4411-B85E-0D6A0D6D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F31-F8C8-4A1A-B240-28915E8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330-F0A8-4C60-82A2-6C18E8EC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F701-410E-4EEE-BE92-0CBB0392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A77-B38C-4E3F-A2AA-82D31064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DBAF-BF29-464E-BC3E-8B370A46C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0" y="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普頌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71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743200" y="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黑体"/>
                <a:ea typeface="黑体"/>
              </a:rPr>
              <a:t>全能右手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1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1 2 |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1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3 - - -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 右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笔书写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记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载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2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祂本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着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权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能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舆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慈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爱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     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把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6320" y="6858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PMingLiU"/>
              </a:rPr>
              <a:t>F </a:t>
            </a:r>
            <a:r>
              <a:rPr b="0" lang="zh-TW" sz="2000" spc="-1" strike="noStrike">
                <a:solidFill>
                  <a:srgbClr val="000000"/>
                </a:solidFill>
                <a:latin typeface="Calibri"/>
                <a:ea typeface="黑体"/>
              </a:rPr>
              <a:t>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920" y="23623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143000" y="2209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33520" y="4724280"/>
            <a:ext cx="27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Arc 13"/>
          <p:cNvSpPr/>
          <p:nvPr/>
        </p:nvSpPr>
        <p:spPr>
          <a:xfrm>
            <a:off x="15238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Arc 14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rc 15"/>
          <p:cNvSpPr/>
          <p:nvPr/>
        </p:nvSpPr>
        <p:spPr>
          <a:xfrm>
            <a:off x="91440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Arc 16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rc 17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1 - - 3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恐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惧与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 迫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害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或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胜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利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失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败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由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6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║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右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笔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記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载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rc 7"/>
          <p:cNvSpPr/>
          <p:nvPr/>
        </p:nvSpPr>
        <p:spPr>
          <a:xfrm>
            <a:off x="1447920" y="19051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rc 8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rc 9"/>
          <p:cNvSpPr/>
          <p:nvPr/>
        </p:nvSpPr>
        <p:spPr>
          <a:xfrm>
            <a:off x="132408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Arc 10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Arc 11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895480" y="4724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1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1 2 |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1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3 - - -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 右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带领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指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导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2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帶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领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们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行走 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正 道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     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密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304920" y="23623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1143000" y="21337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33520" y="4648320"/>
            <a:ext cx="27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rc 10"/>
          <p:cNvSpPr/>
          <p:nvPr/>
        </p:nvSpPr>
        <p:spPr>
          <a:xfrm>
            <a:off x="15238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rc 11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rc 12"/>
          <p:cNvSpPr/>
          <p:nvPr/>
        </p:nvSpPr>
        <p:spPr>
          <a:xfrm>
            <a:off x="91440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Arc 13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Arc 14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1 - - 3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云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蒙蔽  前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途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虽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然容易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迷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路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有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6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║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右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自 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領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导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971800" y="4648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rc 8"/>
          <p:cNvSpPr/>
          <p:nvPr/>
        </p:nvSpPr>
        <p:spPr>
          <a:xfrm>
            <a:off x="1447920" y="19051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Arc 9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Arc 10"/>
          <p:cNvSpPr/>
          <p:nvPr/>
        </p:nvSpPr>
        <p:spPr>
          <a:xfrm>
            <a:off x="132408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Arc 11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Arc 12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1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1 2 |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1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3 - - -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 右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调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理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治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疗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2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医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治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身心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灵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 魂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     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04920" y="23623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143000" y="2209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33520" y="4724280"/>
            <a:ext cx="27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Arc 10"/>
          <p:cNvSpPr/>
          <p:nvPr/>
        </p:nvSpPr>
        <p:spPr>
          <a:xfrm>
            <a:off x="15238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rc 11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Arc 12"/>
          <p:cNvSpPr/>
          <p:nvPr/>
        </p:nvSpPr>
        <p:spPr>
          <a:xfrm>
            <a:off x="99072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Arc 13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Arc 14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1 - - 3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多  奇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妙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祂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爱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心不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动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搖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因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6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║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右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自 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治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疗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971800" y="464832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rc 8"/>
          <p:cNvSpPr/>
          <p:nvPr/>
        </p:nvSpPr>
        <p:spPr>
          <a:xfrm>
            <a:off x="1447920" y="19051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Arc 9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Arc 10"/>
          <p:cNvSpPr/>
          <p:nvPr/>
        </p:nvSpPr>
        <p:spPr>
          <a:xfrm>
            <a:off x="132408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Arc 11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Arc 12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1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1 2 | 3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1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 3 - - -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 右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亲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在各地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栽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种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 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4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2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种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下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自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由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平等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博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爱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      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主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304920" y="23623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143000" y="22096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533520" y="4724280"/>
            <a:ext cx="27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Arc 10"/>
          <p:cNvSpPr/>
          <p:nvPr/>
        </p:nvSpPr>
        <p:spPr>
          <a:xfrm>
            <a:off x="15238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Arc 11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rc 12"/>
          <p:cNvSpPr/>
          <p:nvPr/>
        </p:nvSpPr>
        <p:spPr>
          <a:xfrm>
            <a:off x="914400" y="4343400"/>
            <a:ext cx="380880" cy="7632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rc 13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Arc 14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76320" y="19051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3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| 1 - - 3 |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|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6320" y="25909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民互相  提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携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同 道彼此 </a:t>
            </a:r>
            <a:r>
              <a:rPr b="0" lang="zh-TW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鼓</a:t>
            </a:r>
            <a:r>
              <a:rPr b="0" lang="zh-TW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励</a:t>
            </a:r>
            <a:r>
              <a:rPr b="0" lang="en-US" sz="3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靠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6320" y="441972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6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5 4 | 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 </a:t>
            </a:r>
            <a:r>
              <a:rPr b="0" lang="en-US" sz="3800" spc="-1" strike="noStrike" u="sng">
                <a:solidFill>
                  <a:srgbClr val="000000"/>
                </a:solidFill>
                <a:uFillTx/>
                <a:latin typeface="Arial"/>
                <a:ea typeface="PMingLiU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 |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PMingLiU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  <a:ea typeface="PMingLiU"/>
              </a:rPr>
              <a:t>- -║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76320" y="5029200"/>
            <a:ext cx="9067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全能右 </a:t>
            </a:r>
            <a:r>
              <a:rPr b="0" lang="zh-TW" sz="1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手</a:t>
            </a:r>
            <a:r>
              <a:rPr b="0" lang="zh-TW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结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成 </a:t>
            </a:r>
            <a:r>
              <a:rPr b="0" lang="zh-TW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一 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体</a:t>
            </a:r>
            <a:r>
              <a:rPr b="0" lang="zh-TW" sz="3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8153280" y="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/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971800" y="47242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rc 8"/>
          <p:cNvSpPr/>
          <p:nvPr/>
        </p:nvSpPr>
        <p:spPr>
          <a:xfrm>
            <a:off x="1447920" y="19051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Arc 9"/>
          <p:cNvSpPr/>
          <p:nvPr/>
        </p:nvSpPr>
        <p:spPr>
          <a:xfrm>
            <a:off x="5638680" y="19051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Arc 10"/>
          <p:cNvSpPr/>
          <p:nvPr/>
        </p:nvSpPr>
        <p:spPr>
          <a:xfrm>
            <a:off x="1324080" y="4419720"/>
            <a:ext cx="38088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rc 11"/>
          <p:cNvSpPr/>
          <p:nvPr/>
        </p:nvSpPr>
        <p:spPr>
          <a:xfrm>
            <a:off x="3352680" y="4419720"/>
            <a:ext cx="381240" cy="7596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rc 12"/>
          <p:cNvSpPr/>
          <p:nvPr/>
        </p:nvSpPr>
        <p:spPr>
          <a:xfrm>
            <a:off x="4952880" y="4343400"/>
            <a:ext cx="1524240" cy="152280"/>
          </a:xfrm>
          <a:prstGeom prst="pie">
            <a:avLst/>
          </a:pr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3T09:01:17Z</dcterms:created>
  <dc:creator>Emachines</dc:creator>
  <dc:description/>
  <dc:language>en-US</dc:language>
  <cp:lastModifiedBy>Emachines</cp:lastModifiedBy>
  <dcterms:modified xsi:type="dcterms:W3CDTF">2010-03-03T09:02:37Z</dcterms:modified>
  <cp:revision>2</cp:revision>
  <dc:subject/>
  <dc:title>Slide 1</dc:title>
</cp:coreProperties>
</file>