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0344-B1CF-4AE7-AB7A-F709B7D1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F00-D470-486A-9D62-7E172E588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069-3BEB-479E-B5EF-D96A8110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A564-49EE-45A5-AF78-EAB78BFF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23B8-CAB4-401F-B6ED-59B80862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CEE0-29A7-4DED-A044-41B9A2730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AA97-22F4-4EAE-82A5-4959C153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B43C-F12A-4CD8-96E6-6062B70A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31AC-BF46-42A1-B762-4EED6213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7413-9040-41F0-9627-457C208A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441-C5FD-430D-92FB-F6E1E846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B148-B2D8-400D-A341-820F67A9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C2CD-ADF4-46F1-A32F-5B96E4B072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3059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320" y="0"/>
            <a:ext cx="891540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1:47:35Z</dcterms:modified>
  <cp:revision>34</cp:revision>
  <dc:subject/>
  <dc:title>Slide 1</dc:title>
</cp:coreProperties>
</file>