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DB55-BBED-4334-912F-7B4971B8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062-D25C-4322-9C5B-F3DF806C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A933-3AFA-46FB-977B-6792F8C3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3E8E-7616-4777-A303-6A43DD94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3D4A-3557-47FB-A707-139592CA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A21D-0078-47BF-BB1A-687E8DBA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7C0B-E417-4B4F-99E8-58AD89A1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960C-18A9-4EF4-9E62-2B1F5913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2D98-DD95-42E5-B5AD-8A1B21F5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D9BF-4F5C-4C5D-8E37-4E7977AF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CC4E-8382-4454-B8FF-3DE633F7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A4C8-C5B4-4F24-9EC2-82F60632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2085-743F-4BF9-BF11-53DA0FD584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07732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5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899136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1:46:47Z</dcterms:modified>
  <cp:revision>33</cp:revision>
  <dc:subject/>
  <dc:title>Slide 1</dc:title>
</cp:coreProperties>
</file>