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647-B5E6-4537-8B77-B1B0E327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E14-50B9-43DF-949F-E7E06EA7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D005-B737-443C-8D15-35DE4C9E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B461-DF93-41FC-B578-1A664E89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162-7110-426C-B6FF-E5F090B4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3E7-5979-44C2-B40F-AF61F635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8549-3D83-4163-B73D-3C4B20A4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7BC-0AFE-40DC-98E8-81B16102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C2A-3D49-49AD-8FEB-5C3365BC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18FC-77D7-4532-BBBC-B46DCE2A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3A9-D52A-4B88-BE7A-8E4CFB33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C84A-2D99-4B56-92D0-75B28762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EF7A-0B23-446F-9759-10F58CC76F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4582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45:40Z</dcterms:modified>
  <cp:revision>32</cp:revision>
  <dc:subject/>
  <dc:title>Slide 1</dc:title>
</cp:coreProperties>
</file>