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EED-9175-4C30-810A-DCCC1F14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C6D-D035-401E-8441-4991219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1B7-12CC-4E1F-BC02-0AA1AC34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303-6A45-4821-83A7-7F183AD1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F80-777B-48CF-9501-FDEAB27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285-688A-4212-975C-58ADE2FA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17A-F118-4500-8290-8722066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F24-DD9D-4E88-8FBE-F1E53AA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D68-017D-41B2-8721-0979E1B3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C3A-0C51-4ED5-A264-DE5A4A61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D4E-6154-4937-A3DD-B2B1759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5CE-F0F0-4A15-86D4-F6F3736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8753-936F-4CB0-BE81-DC15495260A2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3:52Z</dcterms:created>
  <dc:creator>Online2PDF.com</dc:creator>
  <dc:description/>
  <dc:language>en-US</dc:language>
  <cp:lastModifiedBy>Online2PDF.com</cp:lastModifiedBy>
  <dcterms:modified xsi:type="dcterms:W3CDTF">2024-01-18T07:23:54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