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4FFB-D672-4E02-B618-F4B2E43FB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56CA-2F7C-4187-988D-49DC21CBE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21E1-BCA1-4DDD-96C6-9D0AA8BA7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8CE8-EDD0-4651-91FD-9753365B8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463B-E304-4DF3-A1E0-3A69DAB80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BED2-7EA9-42E2-9E76-FE487FB1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2E60-5081-48B3-BFCF-C81DA3839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D167-B236-42AB-A8AF-9C31A8CA3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FDAA-5395-4EF9-82FE-D47B7F7A5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EDEE-A99F-418A-BA20-43A7EC31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1E59-71F0-4B9D-82A8-10518612D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757B-35DF-43FC-9835-E75CDAA2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C190-E25F-4693-BD27-B71DF9AA7D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Documents and Settings\ChaiYiing\Desktop\JPG pu song\pu song 576a.JPG"/>
          <p:cNvPicPr/>
          <p:nvPr/>
        </p:nvPicPr>
        <p:blipFill>
          <a:blip r:embed="rId1"/>
          <a:stretch/>
        </p:blipFill>
        <p:spPr>
          <a:xfrm>
            <a:off x="228600" y="380880"/>
            <a:ext cx="8534520" cy="61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C:\Documents and Settings\ChaiYiing\Desktop\JPG pu song\pu song 576b.JPG"/>
          <p:cNvPicPr/>
          <p:nvPr/>
        </p:nvPicPr>
        <p:blipFill>
          <a:blip r:embed="rId1"/>
          <a:stretch/>
        </p:blipFill>
        <p:spPr>
          <a:xfrm>
            <a:off x="457200" y="228600"/>
            <a:ext cx="8305920" cy="683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C:\Documents and Settings\ChaiYiing\Desktop\JPG pu song\pu song 576c.JPG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:\Documents and Settings\ChaiYiing\Desktop\JPG pu song\pu song 576d.JPG"/>
          <p:cNvPicPr/>
          <p:nvPr/>
        </p:nvPicPr>
        <p:blipFill>
          <a:blip r:embed="rId1"/>
          <a:stretch/>
        </p:blipFill>
        <p:spPr>
          <a:xfrm>
            <a:off x="304920" y="304920"/>
            <a:ext cx="84582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6T05:50:25Z</dcterms:created>
  <dc:creator>celester</dc:creator>
  <dc:description/>
  <dc:language>en-US</dc:language>
  <cp:lastModifiedBy>Ing Ming Loh</cp:lastModifiedBy>
  <dcterms:modified xsi:type="dcterms:W3CDTF">2018-10-18T00:40:29Z</dcterms:modified>
  <cp:revision>1</cp:revision>
  <dc:subject/>
  <dc:title>PowerPoint Presentation</dc:title>
</cp:coreProperties>
</file>