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2A8A-AA99-4DC4-9230-7A8EFB76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64B2-BBD4-4BC2-90D5-626AA327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E810-0FB4-4550-87D9-54852FF4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C43F-1E47-4932-B5C1-DE99364C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A796-D3D0-4C21-98C6-EE6D9115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8AFF-F779-4E59-B43E-5E30C3DD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F867-8454-4BD5-A20A-D1954D43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EC9D-78E4-4B7C-B3FE-B435FDF6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9019-85E3-4734-8962-F9BEB034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0635-3EE2-475D-9853-57E25076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2CA6-D050-4D6A-8747-16740C10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78E-0FA3-44AE-BF15-6C7E651D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943E-7CFE-4A6C-87E3-6307207468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1:44:47Z</dcterms:modified>
  <cp:revision>31</cp:revision>
  <dc:subject/>
  <dc:title>Slide 1</dc:title>
</cp:coreProperties>
</file>