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558-EAC4-4CDB-8352-EEECE510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1D2-E5D8-449D-B237-EBDE8990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5AD-2688-47FA-AE72-B342878F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354-12EC-4213-BF8F-3F394034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857-B2DF-4C34-B039-A0990BA0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08C-E603-45BD-84B6-09D58797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22A-748C-4F37-A340-52ED3ECF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2A5-35E6-4923-A7DC-F2C56AF7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BA9-904D-4194-BDDF-EF03220A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65A-C6B9-4B61-BA8F-C2D4E2C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744-A328-4C3C-B199-63B5C645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DF9-7A00-4745-A3E2-9148E040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3525-3B53-4D0E-A997-F1E0AAF139D0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4:09Z</dcterms:created>
  <dc:creator>Online2PDF.com</dc:creator>
  <dc:description/>
  <dc:language>en-US</dc:language>
  <cp:lastModifiedBy>Online2PDF.com</cp:lastModifiedBy>
  <dcterms:modified xsi:type="dcterms:W3CDTF">2024-01-18T07:24:12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