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DA4-F141-42AF-880B-CAC2E3BE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C56-B69F-4EF3-A675-9326145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7DE-8D1F-46F2-8B00-C26EF9B3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496-4ADB-486F-9A12-6EA60D0A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E18-6B8F-45DC-A5D2-FED6B9D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576-0CA1-4B2B-90C1-E56434B9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6FC-40E0-4868-A2B9-F200099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05C-CCD9-4F1A-8A97-C0DFC506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698-E15E-41DF-92C2-8EB891D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C44-C00F-48F7-B466-B81FEAF3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4CC-238C-4C37-A4E3-53F5A1C9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707-B30C-4AF3-A036-64C8D1F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5DC8-9BB2-4705-ACAD-494D3FEC031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15Z</dcterms:created>
  <dc:creator>Online2PDF.com</dc:creator>
  <dc:description/>
  <dc:language>en-US</dc:language>
  <cp:lastModifiedBy>Online2PDF.com</cp:lastModifiedBy>
  <dcterms:modified xsi:type="dcterms:W3CDTF">2024-01-18T07:24:16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