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C15-C29D-40ED-8EA0-4D5264F2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8B7-239B-4F64-A159-4F8A23F4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D64-28F1-4601-9F34-4DC66D3D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DA4-49E3-4598-8379-791D07D8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DE80-0284-4B6E-8706-4BDD1CB9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74E4-1400-4248-803F-C643332C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2AC-B1F0-45F8-ABDB-3CB8077A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AB1B-6B29-4585-AFCF-4469BB17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E0D-0AA9-4DA0-9595-EED1B07C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3197-2307-4800-9E96-288B50D3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6F4-A551-4F13-9DF2-42C0F0F8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EDA-29C6-4E1A-B28E-161786C8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410F-EECE-4692-8F15-30E9B95A6757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4:18Z</dcterms:created>
  <dc:creator>Online2PDF.com</dc:creator>
  <dc:description/>
  <dc:language>en-US</dc:language>
  <cp:lastModifiedBy>Online2PDF.com</cp:lastModifiedBy>
  <dcterms:modified xsi:type="dcterms:W3CDTF">2024-01-18T07:24:20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