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50C-31BA-40A3-B17A-7085A89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AF4-9907-4F48-A67C-5A886C1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F7D-FE1E-40C3-872A-573D2821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9BE-57D3-4134-AD39-0C89A0FB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F5D-48B8-4487-AEF9-AFE86F4C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519-3036-426C-A45D-C6ACEE7B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79D-9DAF-42E3-AB36-CD97FE9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538-C3A5-45E8-BD8B-350D82FF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147-EE1C-4FE6-88B7-4C7C187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519-BBFF-41C6-BC5A-A4F2D4D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F30-BC5D-4804-B729-BBF8EADA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7E8-4ADD-42EE-BBEC-FBA12EF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0EBF-FF6D-4413-827A-DA8CA91AD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154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3:55Z</dcterms:modified>
  <cp:revision>30</cp:revision>
  <dc:subject/>
  <dc:title>Slide 1</dc:title>
</cp:coreProperties>
</file>