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F94-A9B0-46E5-ACA6-937621DF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0FE-3E24-43A1-B8A7-AB5AFABA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E94-4F3D-4C97-B128-03FC956A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843-F4C9-46E3-BC29-68FAACBE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04F-8533-4EB0-9610-C4A17625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E08-AAA8-42D3-A27A-4110C092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288-8AAB-476E-B038-8E0E5FEB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B1F-094D-440B-91F6-D68F48A9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1F0-777C-4652-B421-9BC73236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DF2-9ECE-402D-87C8-D92FB4BC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DE1-F47B-4B0C-A42F-A3907DA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C5F-1DD1-4CF1-9009-06DF4EE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A3B7-C19D-43CE-9F4E-5845A1008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41:45Z</dcterms:modified>
  <cp:revision>28</cp:revision>
  <dc:subject/>
  <dc:title>Slide 1</dc:title>
</cp:coreProperties>
</file>