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FCF5-DACE-4828-A60D-43526201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EC16-85BE-41C1-B266-8EA523D2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995F-5A38-4E5C-936E-F14EC2101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0DE0-DB38-456A-8C83-045ED830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749D-DAAC-4268-B75F-BEED1E00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2DEE-A8F8-4710-9918-0A926859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C2C6-1231-42CE-8D73-B19A4A7C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C013-E63A-433C-8427-B63B209C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93AA-639B-4FA4-B1E0-03443530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B8DE-849F-4BEE-997F-EFC430AE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B91B-7159-41DD-BA8B-6A1CA73D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D1BD-132B-4A02-AE2F-87752BC0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59E9-8AA7-4DD7-B437-853B6C817829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24:23Z</dcterms:created>
  <dc:creator>Online2PDF.com</dc:creator>
  <dc:description/>
  <dc:language>en-US</dc:language>
  <cp:lastModifiedBy>Online2PDF.com</cp:lastModifiedBy>
  <dcterms:modified xsi:type="dcterms:W3CDTF">2024-01-18T07:24:27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