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6E0-25A9-40C8-AF1C-83AE0DFE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5E7-403F-4379-BADC-0F0683F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914-5651-4E5E-A00B-6CA70FAD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1B1-331F-48D2-BEC9-D13BC250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5C4-FD5D-4D89-A5C7-7B51511C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C0B-DABD-4413-95C7-0BDB27F6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183-D2D8-4F73-B394-252FEEF7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357-A371-4534-9065-9DBF17E4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A92-2574-44EA-9146-3B87DF8D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619-655A-48B9-9FE6-083AFD5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3E9-B112-4096-84EE-DCE521A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55E-5C81-40DE-9E73-AD95B6C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B69D-4262-4ACD-B575-0C4AD524A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585a copy.jpg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585b copy.jpg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haiYiing\Desktop\JPG pu song\pu song 585c copy.jpg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ChaiYiing\Desktop\JPG pu song\pu song 585d copy.jpg"/>
          <p:cNvPicPr/>
          <p:nvPr/>
        </p:nvPicPr>
        <p:blipFill>
          <a:blip r:embed="rId1"/>
          <a:stretch/>
        </p:blipFill>
        <p:spPr>
          <a:xfrm>
            <a:off x="380880" y="333360"/>
            <a:ext cx="83059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ChaiYiing\Desktop\JPG pu song\pu song 585e copy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5:54:29Z</dcterms:created>
  <dc:creator>celester</dc:creator>
  <dc:description/>
  <dc:language>en-US</dc:language>
  <cp:lastModifiedBy>Ing Ming Loh</cp:lastModifiedBy>
  <dcterms:modified xsi:type="dcterms:W3CDTF">2018-10-18T01:41:04Z</dcterms:modified>
  <cp:revision>1</cp:revision>
  <dc:subject/>
  <dc:title>PowerPoint Presentation</dc:title>
</cp:coreProperties>
</file>