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2D7-A452-41D5-B5F5-A9DF9405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D09-64C6-4A05-8EE8-5322842A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8E65-D9A7-4433-B10B-9F4A9118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5A8-799F-4ADC-A013-B04276EA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2BB-A4F7-470B-80D0-D3A3E877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8F6-FAEA-4B7A-98EA-34403FAF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1FB-9CE7-49AF-8E62-64F2516E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7EB3-4784-49D6-8AE5-080EE82D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245-19E0-47E0-812B-6045E01D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12D-9A7A-4D0E-9A4C-D0406402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675-5A8B-4E32-B5C4-2ABEE29A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4D4-D3FF-4AF1-984D-7EEDDC2B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972A-DCB7-4E18-8C7B-853167A96B2B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76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4:30Z</dcterms:created>
  <dc:creator>Online2PDF.com</dc:creator>
  <dc:description/>
  <dc:language>en-US</dc:language>
  <cp:lastModifiedBy>Online2PDF.com</cp:lastModifiedBy>
  <dcterms:modified xsi:type="dcterms:W3CDTF">2024-01-18T07:24:32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