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985-DF79-4293-B65E-AEE9AD88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E85-100D-4FAA-B870-19B5287D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F70-597D-4110-BE6E-C1640822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5ED-1D16-4F0E-9A16-4F6EE575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1B8-6B0C-4CAF-AD7C-69C71856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B53-0B33-4979-B1F7-3EB0DD57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7EA-CEF1-431F-BE8A-8388498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23A-DD70-4CBF-9E39-79653436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188-78E9-405C-B338-040B63E5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E6B-249E-48BE-AB43-8255CB89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F6B-6F9C-4021-80A8-7E178BA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F18-3F5E-44F7-8FFA-D91ACBA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37FA-1BD7-4A82-9461-4095F85C37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0:51Z</dcterms:modified>
  <cp:revision>27</cp:revision>
  <dc:subject/>
  <dc:title>Slide 1</dc:title>
</cp:coreProperties>
</file>