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1EF-8DC0-47BF-A76A-CBBEB42C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AAF-8586-4708-BB1B-2923B049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45A-4B95-4B85-B7F1-B0BA643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AD3-D7F6-4F55-A1DF-8132E00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A25-096C-4989-9252-4D9101E3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8D0-B29C-4B7E-A4AB-09A3356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BB1-4571-4D77-B754-D6EB0FE1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15A-D04B-4938-8C45-D409977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77A-6DC1-43E5-BA22-D40D96CE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D92-E1B8-4F3D-84D6-7EC3647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469-BD02-4711-8CD3-E357AB0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4A2-A8AF-40E4-B23C-8C85BF7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4FB0-BFE2-4567-A5C4-7A7CC7869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29:12Z</dcterms:modified>
  <cp:revision>26</cp:revision>
  <dc:subject/>
  <dc:title>Slide 1</dc:title>
</cp:coreProperties>
</file>