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643-4951-4BB6-B65C-9602CA25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6FE-BABF-4864-A4AC-03C9CA43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4C9-85DF-43E2-964E-21F45A02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366-EF09-49B2-A1F3-427838A3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8D5-69CB-40AD-8069-C0293D7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14E-2E65-47A3-BE20-2529316F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725-86E1-46B4-89C5-59BAC4D5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B2B-FD34-464A-ADF9-301E4186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29F-787D-4A0C-8649-5C3A97CE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217-5C55-4B74-8187-B32DB20F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EBA-AD8F-465D-8450-179FB11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998-C5AF-46BD-8BD1-C65118CA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D286-0650-4320-A1B7-0818BAA99C06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4:37Z</dcterms:created>
  <dc:creator>Online2PDF.com</dc:creator>
  <dc:description/>
  <dc:language>en-US</dc:language>
  <cp:lastModifiedBy>Online2PDF.com</cp:lastModifiedBy>
  <dcterms:modified xsi:type="dcterms:W3CDTF">2024-01-18T07:24:41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