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7A2-D878-4064-97F7-0C443351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D43-699B-4F2A-A959-938C097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3C4-5A5D-4331-863D-5FBF1913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95E-7C01-4791-A4E5-E371C88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A8F-058B-4C9C-96DB-4B01084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D32-A705-4DCE-87FF-9818913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88A-6B8B-4FC3-B584-81BE1379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AC2-3183-45FD-AD7A-92DF4C64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8F0-8383-485A-A47F-025D7632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EC0-B0EF-4189-9E73-B230E07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141-825F-44DB-9B32-4CAC77E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67D-7D50-406A-8D75-EAC5C20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A9B-8AE8-41D4-8C41-BCA957A6C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27:36Z</dcterms:modified>
  <cp:revision>25</cp:revision>
  <dc:subject/>
  <dc:title>Slide 1</dc:title>
</cp:coreProperties>
</file>