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E284-A771-402A-8824-722BA3DD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D310-C3C4-48D3-90D1-83D110DA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508F-3FAE-4B79-8B27-51668254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F216-2B8D-4C77-BAF2-1BD2F16F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9D0-8AEE-469E-A0A3-B3CA380D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8A8-C780-401E-A8DC-B5ED9644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AEE-BF11-42B1-B6E5-24CB753D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3E04-2C1F-4BE8-89E4-568B40F1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8576-102E-4ADE-8662-E0E62636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D406-4E2F-410D-BB74-FA71647F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B411-AFD2-41BA-ACC3-E263D71D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154-48C5-4B49-A04B-5A8B7DAD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57ED-825B-430B-99A4-096E8E0C6879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4:43Z</dcterms:created>
  <dc:creator>Online2PDF.com</dc:creator>
  <dc:description/>
  <dc:language>en-US</dc:language>
  <cp:lastModifiedBy>Online2PDF.com</cp:lastModifiedBy>
  <dcterms:modified xsi:type="dcterms:W3CDTF">2024-01-18T07:24:46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