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C226-4A01-491A-8F2B-EA666F92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443E-166D-4718-96D1-574A0799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DE51-54AE-4B32-B76E-2F034344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FF0F-338A-4EFE-A082-2729F7F0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1879-6E0E-405C-8692-E4C7F46C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BA91-3D8E-46BD-BB68-79A6C756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9626-496A-400D-93E5-5F09FE05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60C2-30F4-4D5F-9536-D9C42BF8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94B8-E1A0-4F54-84B4-D655106D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62C0-DE70-4829-A57F-64B1B2BB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69DE-0F5F-449F-B127-202672C4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A8F0-4A82-4FD7-8098-681B2D2D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937A-51F0-4C14-B926-B6EFFDA4B51D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24:58Z</dcterms:created>
  <dc:creator>Online2PDF.com</dc:creator>
  <dc:description/>
  <dc:language>en-US</dc:language>
  <cp:lastModifiedBy>Online2PDF.com</cp:lastModifiedBy>
  <dcterms:modified xsi:type="dcterms:W3CDTF">2024-01-18T07:25:00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