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1663-8E59-4AA6-916D-F7D176B5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1BA5-31B0-45E1-90CB-C275AC97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5A00-D7D7-4286-BEB0-4792D054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D286-5FD5-49EB-B84D-418EE632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F7AC-C91E-430A-B978-A1945F6B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FF5-DC88-4F86-99C9-2ACF59C5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39D8-1E67-4E1D-8A6D-F391DF16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EE54-82E3-4519-9AAA-0BD1C7C6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5C76-1088-4200-9E6C-0FB6863C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7DA-766D-4C4C-9DD6-4F12AC50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AD1-21C4-4EF8-9208-74ADD5D8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38E1-E7F1-4B73-B788-6098EB65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3458-F05B-47F5-8284-DD6C9E7E3880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5:06Z</dcterms:created>
  <dc:creator>Online2PDF.com</dc:creator>
  <dc:description/>
  <dc:language>en-US</dc:language>
  <cp:lastModifiedBy>Online2PDF.com</cp:lastModifiedBy>
  <dcterms:modified xsi:type="dcterms:W3CDTF">2024-01-18T07:25:0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