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FEC6-A4C1-4D31-AB41-4B1AE890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5F26-3110-4B3D-BE1B-539512B9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70D7-2C91-4DA8-B459-9BD091A9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3EA-9CDD-4658-A6A3-1C9459AC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D201-D3BE-405B-839E-B07E4BB0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9B5-C9EF-4A9B-858A-9AE38ADA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B050-0EEE-4254-B3F1-CE403113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6091-9DC6-4B12-94D0-E426E4D4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CB9E-0E2F-4775-BE9D-55E9C8EC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ACB0-A940-4A6E-AC04-A78D5895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781E-2980-4DC7-9928-A78E3F15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18EC-63E9-42E4-9811-33A44574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B448-69DA-48C1-B380-F334B6A115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76" descr="a1"/>
          <p:cNvPicPr/>
          <p:nvPr/>
        </p:nvPicPr>
        <p:blipFill>
          <a:blip r:embed="rId1"/>
          <a:stretch/>
        </p:blipFill>
        <p:spPr>
          <a:xfrm>
            <a:off x="152280" y="0"/>
            <a:ext cx="8610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164" descr="a2"/>
          <p:cNvPicPr/>
          <p:nvPr/>
        </p:nvPicPr>
        <p:blipFill>
          <a:blip r:embed="rId1"/>
          <a:stretch/>
        </p:blipFill>
        <p:spPr>
          <a:xfrm>
            <a:off x="0" y="0"/>
            <a:ext cx="914400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-6480"/>
            <a:ext cx="9120240" cy="65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tony</cp:lastModifiedBy>
  <dcterms:modified xsi:type="dcterms:W3CDTF">2019-06-28T03:51:16Z</dcterms:modified>
  <cp:revision>2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