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F83-7C0B-405C-AC92-A6275595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E73-3A51-422F-B989-00F40BC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244-EF7E-43D0-BF9A-29431CC3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C99-42F5-46BD-97E0-A543C75E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E26-E4F5-4C2F-994E-526E4F5C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CC2-3875-49E6-AF9B-888F2352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D93-2BB1-4BDC-9C74-76625604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218-4168-44ED-A8D9-F33EA870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E9A-01AC-4E10-9210-7E4A849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717-3442-46D8-BCDE-6840BF72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616-3269-4BA3-AA74-4108037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189-6B64-4D1B-859A-31F985F9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5ED34-E7E6-463B-9103-7BFA972C6FE3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02:18:14Z</dcterms:created>
  <dc:creator>Ing Ming Loh</dc:creator>
  <dc:description/>
  <dc:language>en-US</dc:language>
  <cp:lastModifiedBy>Ing Ming Loh</cp:lastModifiedBy>
  <dcterms:modified xsi:type="dcterms:W3CDTF">2018-10-18T02:18:46Z</dcterms:modified>
  <cp:revision>1</cp:revision>
  <dc:subject/>
  <dc:title>PowerPoint Presentation</dc:title>
</cp:coreProperties>
</file>