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D42-EA1C-462E-BF00-3B1434A1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254-C2EF-4D20-8B3F-C259BD2E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F9F-333B-4832-9939-EF36C0F9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536-B6C2-480A-AD97-C3C2DEAB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702-D9A6-4058-9FFE-DE5F866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BB6-10EF-4A68-9E46-98E48976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180-BD5A-4752-9D51-93A4699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CAF-7CD8-48CB-A4C1-CF80AF0E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B67-2C92-4B86-86D6-32FE4D85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039-F436-410C-AEE9-BCC6D42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5D1-3BAB-4872-BC12-2B5911DA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59B-113B-4FE4-A6E1-427F1D4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41701-58DB-4F97-B5A8-21F7B6EB2773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02:23:24Z</dcterms:created>
  <dc:creator>Ing Ming Loh</dc:creator>
  <dc:description/>
  <dc:language>en-US</dc:language>
  <cp:lastModifiedBy>Ing Ming Loh</cp:lastModifiedBy>
  <dcterms:modified xsi:type="dcterms:W3CDTF">2018-10-18T02:23:58Z</dcterms:modified>
  <cp:revision>1</cp:revision>
  <dc:subject/>
  <dc:title>PowerPoint Presentation</dc:title>
</cp:coreProperties>
</file>