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A24-757C-4B49-B023-BB970039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45C-C301-4EF2-8227-FDF4994A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F53-FF46-4D22-9EB7-252C5E0E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509-E6C2-433C-87DA-522EAF0B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628-D41A-497B-86CE-256A665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CF2-BF37-403F-9BC4-6A2AD62D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360-55C0-4876-93B6-73FABF63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1A2-EE4A-408A-B1B1-244D01CB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D78-723A-47EB-B888-DA6CF35F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DB1-8290-471A-B41E-5AC56DB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DBE-1E46-45E7-AB76-EB560A86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740-58C5-4980-A4AC-AE14EA9E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F67B-3D98-493E-8892-A1AF83A5495A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8483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5:16Z</dcterms:created>
  <dc:creator>Online2PDF.com</dc:creator>
  <dc:description/>
  <dc:language>en-US</dc:language>
  <cp:lastModifiedBy>Online2PDF.com</cp:lastModifiedBy>
  <dcterms:modified xsi:type="dcterms:W3CDTF">2024-01-18T07:25:19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