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6279-B774-41EF-810A-C35093CF0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383F-F413-4853-A021-0E84FC57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6222-7CEE-4CF0-A3F2-B6AA8B380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9BF2-1885-4FEC-801A-DBE31E18D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F200-5A90-4ED3-B2C0-19CA6211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DCCB-7B54-4A01-98A8-AB9C84DD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C5B2-C324-446F-B30B-74B46E0F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0C01-EA01-4E8D-966F-DEF5DB10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3547-E84F-4E54-AACD-A85C1ED9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36EE-B1CF-4E1B-8580-AA8D7F4B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0D07-0CE6-4189-8B9D-73C5362A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49D6-8F1D-4717-B0BC-A2CD7684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7149-D4F2-4F0C-A12E-1F0FE4F7872D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25:22Z</dcterms:created>
  <dc:creator>Online2PDF.com</dc:creator>
  <dc:description/>
  <dc:language>en-US</dc:language>
  <cp:lastModifiedBy>Online2PDF.com</cp:lastModifiedBy>
  <dcterms:modified xsi:type="dcterms:W3CDTF">2024-01-18T07:25:24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