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E96-AE5F-49D5-BE9F-51563E69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0A02-7AC9-47CF-BEC2-64A8554E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E6A-1DE8-49F3-88BB-BE669E93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45E-935F-443C-B97D-1E8BCD26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52F1-9476-4E0E-A4EB-1BD64E7C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0C0-D825-49A2-9376-F716D29C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967A-242F-4BDC-A3B2-EB1C95CC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CC9-5D92-4AD2-8286-E7955AC9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D07-9D8E-45E6-AA09-498168E5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E38-6911-404D-B100-F2942EEE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2524-551C-45AA-9581-E9E49465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D26-8BDB-4D5E-8B0A-1DAF6AFD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5E98-795A-4F53-A73B-FB0F6D984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ChaiYiing\Desktop\JPG pu song\pu song 600a copy.jpg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ChaiYiing\Desktop\JPG pu song\pu song 600b copy.jpg"/>
          <p:cNvPicPr/>
          <p:nvPr/>
        </p:nvPicPr>
        <p:blipFill>
          <a:blip r:embed="rId1"/>
          <a:stretch/>
        </p:blipFill>
        <p:spPr>
          <a:xfrm>
            <a:off x="366840" y="333360"/>
            <a:ext cx="847224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11200" y="498600"/>
            <a:ext cx="812160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ChaiYiing\Desktop\JPG pu song\pu song 600d copy.jpg"/>
          <p:cNvPicPr/>
          <p:nvPr/>
        </p:nvPicPr>
        <p:blipFill>
          <a:blip r:embed="rId1"/>
          <a:stretch/>
        </p:blipFill>
        <p:spPr>
          <a:xfrm>
            <a:off x="533520" y="333360"/>
            <a:ext cx="829152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6:06:17Z</dcterms:created>
  <dc:creator>celester</dc:creator>
  <dc:description/>
  <dc:language>en-US</dc:language>
  <cp:lastModifiedBy>tony</cp:lastModifiedBy>
  <dcterms:modified xsi:type="dcterms:W3CDTF">2019-06-28T06:56:1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