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38A-99DB-476D-B216-7A6862EF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F6D-9735-450D-818B-D6B503C8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0B4-B145-4B61-B546-957AC304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EC9-2529-498E-81EE-293B417A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21E-47A9-44FA-A716-06BFC9D6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41C-2AD3-4D8C-A93B-366468DD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313-3569-44EC-9F78-10DA1934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F32-8FC5-4D4F-81CB-4148C335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35E-7981-4EA8-98BC-AD1E8689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D79-A79A-4C42-8010-C806B35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859-FE31-4257-BBDE-9606BC0E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7CF-0770-4DF2-A318-145125B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E59B-C761-418E-8AC4-A01CC34DA4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83908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22:03Z</dcterms:modified>
  <cp:revision>21</cp:revision>
  <dc:subject/>
  <dc:title>Slide 1</dc:title>
</cp:coreProperties>
</file>