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3422-0964-420B-9B2D-22D4D759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323-1F71-4592-AB53-BB51A298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27C6-8315-4E64-AEBA-39A526F1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D326-E424-47A2-8820-B82181AE1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11ED-7117-4340-9CBE-3162E4CD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879-A1CB-4DBA-AC51-62434FB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E4EA-0889-4766-8E02-B5C1329B9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3AE-1F55-461D-B7A6-47E8060F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2084-FB5F-49B5-9246-D04343648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1F6-0229-4BCC-9B78-7BE14411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516-9F85-47B9-AB1E-E5CF423B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DFB3-C4A8-44F5-8B8C-09265FBE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4525-E2CC-4981-8217-2D3C1D1BFB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00:39:48Z</dcterms:created>
  <dc:creator> </dc:creator>
  <dc:description/>
  <dc:language>en-US</dc:language>
  <cp:lastModifiedBy> </cp:lastModifiedBy>
  <dcterms:modified xsi:type="dcterms:W3CDTF">2007-12-28T01:20:16Z</dcterms:modified>
  <cp:revision>20</cp:revision>
  <dc:subject/>
  <dc:title>Slide 1</dc:title>
</cp:coreProperties>
</file>