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8F8-7C8D-4464-8130-7E0E5377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DDF-DE4E-49E2-8AA2-69A6EB70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44D-A2C7-4B0F-BB06-1AC6F69E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C44-73F7-486F-97E8-C6C68EC5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9A9-68B7-46B3-A3F3-2C8CD2C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81E-8637-46D0-A21E-3E2D6D5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127-2262-4DC4-821F-98B57D3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7E5-2943-4C08-A54A-D08C4126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A09-86AF-4434-BA31-B731E040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A82-D807-4225-9B7A-38E567A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F9D-89CC-428C-8F1C-076EAF7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43D-3A4A-490D-99A0-2083A47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CB1B-1788-4E8C-8C41-D49648ECCC5E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26Z</dcterms:created>
  <dc:creator>Online2PDF.com</dc:creator>
  <dc:description/>
  <dc:language>en-US</dc:language>
  <cp:lastModifiedBy>Online2PDF.com</cp:lastModifiedBy>
  <dcterms:modified xsi:type="dcterms:W3CDTF">2024-01-18T07:25:28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