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9CC0-0829-48CD-860E-5FC8FC269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7209-216A-4D51-BCEE-39FE56BD9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B487-64EF-4D61-BDC7-776234E2A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BC00-D085-4A0A-96D4-03A614753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B5D2-EE22-4533-B2B7-4A161880E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FF84-7DDA-4A03-9837-F089831F9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AAA0-81D8-4750-964E-B96CA02C3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ACBF-F104-4492-AFE7-1DE149A78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C2EB-9DE9-450C-A095-111E47BD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6782-2E6C-4E79-9C4B-36ABCD1D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C2E7-1757-4C31-ACE0-1F4C5E05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422F-F477-4AD9-8394-1B44D0FB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FCD90-8D30-4EDF-B960-7F0BA16A87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2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8T00:39:48Z</dcterms:created>
  <dc:creator> </dc:creator>
  <dc:description/>
  <dc:language>en-US</dc:language>
  <cp:lastModifiedBy> </cp:lastModifiedBy>
  <dcterms:modified xsi:type="dcterms:W3CDTF">2007-12-28T01:18:42Z</dcterms:modified>
  <cp:revision>19</cp:revision>
  <dc:subject/>
  <dc:title>Slide 1</dc:title>
</cp:coreProperties>
</file>