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17E-68BC-44FB-8269-5FA9E68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30E-D79D-46BC-8D33-3816D49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E68-6E2F-4404-B9FF-7ED41E82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D0B-403A-4AF3-A20C-4E985B1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714-C638-477A-AEED-AA4A7096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902-0DE9-4667-A379-3FCD2D73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BC1-5610-47AE-8B64-6ECC3F5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0EA-4BF5-40C3-8003-693F2D7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F3D-B716-42F5-99D1-9F9D579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18A-D876-4C20-8F37-B3F7DD4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BD7-1BF7-49FC-9602-37373E3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032-FFFF-41FB-975B-8084CA1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3E8D-54E4-4FDF-8A4B-600FA644BE92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30Z</dcterms:created>
  <dc:creator>Online2PDF.com</dc:creator>
  <dc:description/>
  <dc:language>en-US</dc:language>
  <cp:lastModifiedBy>Online2PDF.com</cp:lastModifiedBy>
  <dcterms:modified xsi:type="dcterms:W3CDTF">2024-01-18T07:25:3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