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FE0-3427-4E3A-88BF-7F43BF7B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5F98-23AE-444D-9BCC-9FB26F2D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D2C2-F1BE-4C79-9F88-1076EC04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D0FA-85ED-41B1-BB2A-D5FF807B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093-D4CA-4E6F-8F1A-6178E22B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2237-9EEC-419A-9C17-241EC637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3C3C-7A21-4207-A1FB-3E1D5168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E046-E5AE-4CD9-84E4-D7CF7AFC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B77-7B43-46B9-890C-58205FEF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2AC0-A5F8-4386-949E-BD3A517C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36F5-6B41-4764-93A4-802128CB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B61-7B6F-4AEA-A166-9ECD71CF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8C98-6B9F-462B-AF21-1955C8A934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1:17:15Z</dcterms:modified>
  <cp:revision>18</cp:revision>
  <dc:subject/>
  <dc:title>Slide 1</dc:title>
</cp:coreProperties>
</file>