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2EB-BAE0-4F55-BA11-CB95A2B2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EA2-2748-4A76-A051-4B1C4EC6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095-9FB1-4360-8356-57F25BE9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BD9-01ED-4FCD-92EA-CC8DC492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786-2090-4974-A0B9-89AA860F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31B-47F9-455E-B6D2-53C8D8E1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8FF-D94C-4787-A2F6-CCA95ED0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4DF-1B32-4A15-BFF1-BE00A743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50C-35F3-4C4B-A1A0-A44AF72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56A-E90A-45A9-B63B-F921376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38F-2850-4D0B-9054-F6C1060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AD1-6CCF-49CB-9374-49FE8816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57D-F208-405A-8D85-393BF1301D7E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5:34Z</dcterms:created>
  <dc:creator>Online2PDF.com</dc:creator>
  <dc:description/>
  <dc:language>en-US</dc:language>
  <cp:lastModifiedBy>Online2PDF.com</cp:lastModifiedBy>
  <dcterms:modified xsi:type="dcterms:W3CDTF">2024-01-18T07:25:3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