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2B4C-6E76-457B-AD32-8FF47F53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AD3A-305E-41A1-9EAF-4ABDAFD4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E9E8-D7EE-4106-8310-28417A0D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345-3646-43FF-A197-29912612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287-ADB4-4A9F-9414-CF7BB609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18B9-ED91-4366-B752-2EFEF74B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E8C-2966-42CE-A52C-555CC249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4C12-AA0F-4F2F-A8DA-4003F112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1882-B5D1-478F-B632-BA57F160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92A7-5054-4492-9553-8926A620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DD7-2641-4F39-9501-3B64D437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996F-AC88-421B-A9B8-8DD8B7B1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12C9-3A38-4AC8-8E34-26155DE593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5669" r="0" b="0"/>
          <a:stretch/>
        </p:blipFill>
        <p:spPr>
          <a:xfrm>
            <a:off x="0" y="0"/>
            <a:ext cx="91440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1:16:23Z</dcterms:modified>
  <cp:revision>17</cp:revision>
  <dc:subject/>
  <dc:title>Slide 1</dc:title>
</cp:coreProperties>
</file>