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080-D17B-465D-8810-129D5782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CDC-DD54-4785-8FA2-56B4E9D9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509-93B9-4823-9E77-E9D6F8DF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48E-5191-436D-B862-9D7E07D5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CD7-66A3-4CE2-9BCE-D4B1D6DB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2A7-C038-47D0-B7BD-297AAA27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7EC-DFE0-494D-B03F-69D74DFA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0BF-CC46-46B4-8C97-66D59767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77E-2FEC-4CAA-A149-B77C2DD2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C0E-B80C-4AD4-82D9-8C10E713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F39-3306-4B03-A89B-FC917F20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B64-A13A-443F-9FCA-E197AE03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DD4D-2C88-4355-AA44-E8900CCC3D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15:15Z</dcterms:modified>
  <cp:revision>16</cp:revision>
  <dc:subject/>
  <dc:title>Slide 1</dc:title>
</cp:coreProperties>
</file>