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686-68ED-4E35-A16E-DD6BEE0F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8C7-A745-4899-9811-054F8562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618-7D9C-4513-97BA-8CE53122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9FD-B905-4E30-A179-1E8F8EF4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A0F-A383-40B0-A860-A27FF83E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E48-C53A-4430-801B-DFA90547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9EB-87F6-4454-A82A-835DF22E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509-43A6-4D79-B281-3B48473F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E7B-9080-44E0-8D91-22E1605B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643-B24D-4BFF-8715-CF154BED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232-232F-40FF-9D21-22B809F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629-3F37-422D-B8EC-C0F39FA1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23AE-38B6-49C2-94BB-454CAAAA4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07:20Z</dcterms:modified>
  <cp:revision>15</cp:revision>
  <dc:subject/>
  <dc:title>Slide 1</dc:title>
</cp:coreProperties>
</file>