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6C3-2601-418F-BAC5-22CCD7D5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3B9-5A66-474B-99D6-C548551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559-1D95-4187-AB26-7DD43DEC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29B-44B1-4FE5-8241-4EE23D48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3A2-F685-497C-A081-1243A17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BAE-F5FA-4562-ADEC-1B739D0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7C6-C09D-42DF-80E9-853D6431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908-9915-4A67-A1C4-71F6B4E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A62-6BEB-4384-964A-91278703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E0C-F8C0-4C14-94E3-6453CC1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EE5-4417-4B2E-B58A-A872ACD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5B8-0AF0-4C0A-8B94-30F9BBD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AFC-6CC4-4DB6-B134-FF6FE68C9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14a.JPG"/>
          <p:cNvPicPr/>
          <p:nvPr/>
        </p:nvPicPr>
        <p:blipFill>
          <a:blip r:embed="rId1"/>
          <a:stretch/>
        </p:blipFill>
        <p:spPr>
          <a:xfrm>
            <a:off x="304920" y="228600"/>
            <a:ext cx="8461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614b.JPG"/>
          <p:cNvPicPr/>
          <p:nvPr/>
        </p:nvPicPr>
        <p:blipFill>
          <a:blip r:embed="rId1"/>
          <a:stretch/>
        </p:blipFill>
        <p:spPr>
          <a:xfrm>
            <a:off x="333360" y="457200"/>
            <a:ext cx="83818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614c.JPG"/>
          <p:cNvPicPr/>
          <p:nvPr/>
        </p:nvPicPr>
        <p:blipFill>
          <a:blip r:embed="rId1"/>
          <a:stretch/>
        </p:blipFill>
        <p:spPr>
          <a:xfrm>
            <a:off x="380880" y="15228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09:33Z</dcterms:created>
  <dc:creator>celester</dc:creator>
  <dc:description/>
  <dc:language>en-US</dc:language>
  <cp:lastModifiedBy>Ing Ming Loh</cp:lastModifiedBy>
  <dcterms:modified xsi:type="dcterms:W3CDTF">2018-10-19T01:04:06Z</dcterms:modified>
  <cp:revision>1</cp:revision>
  <dc:subject/>
  <dc:title>PowerPoint Presentation</dc:title>
</cp:coreProperties>
</file>