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046-8BEC-4390-B493-A312D597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90C-724A-4118-B3FC-18A8FC3C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158-E93B-4D5B-9F5A-FAC2895D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02A-4DEE-47E2-89A9-18971A25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632-0A6B-4955-AB5D-04A8F212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5B1-E726-4DB7-B379-078B8A74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BBE-4376-464F-96FA-B6E9F19B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622-47E1-4E41-9EC0-5098A7E9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8D9-AB21-4BF9-B4D1-AACCE0DF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E72-84F7-4027-A023-D3CD5E4C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755-1EE0-4225-A624-DE0CA6FC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ABA-6DC9-4E65-8F9B-8AE4A6D7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AA82-3B71-479E-9EAF-7C48C28D96FA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33:06Z</dcterms:created>
  <dc:creator>Online2PDF.com</dc:creator>
  <dc:description/>
  <dc:language>en-US</dc:language>
  <cp:lastModifiedBy>Online2PDF.com</cp:lastModifiedBy>
  <dcterms:modified xsi:type="dcterms:W3CDTF">2024-01-18T07:33:10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