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C2-081D-4FA8-BB07-DE18B16F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2E4-7E63-4377-8F5D-8C028D3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843-63F3-408F-A834-E5995D8F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BCB-1861-4E74-A2FA-CDA4C2A8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DD9-07AC-48C9-B01A-841D1A6E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17A-8358-4475-B6D3-BC2D5DD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EE5-FD6A-4BF9-BF3C-CC904895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38D-9ECE-4432-A235-09293258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46E-76B3-4316-9E60-DD7D7FED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D00-80E8-4B52-A951-C2C3B68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1A1-7A0E-404C-8E79-619749F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B4C-EED4-4233-889F-76DCBD1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015F-BFB8-4CCA-82B9-B3E61FFEE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06:25Z</dcterms:modified>
  <cp:revision>14</cp:revision>
  <dc:subject/>
  <dc:title>Slide 1</dc:title>
</cp:coreProperties>
</file>