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277D-A4F6-4F06-9D86-42366EFA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177-3539-4C8E-9BBF-7A6457C8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79D-96AA-4EAF-B911-ED3EFBFC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466-1A9E-4646-9A0E-23690770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843-5298-4F9B-86D2-88D073C0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025-27A8-4A3B-9764-B581EADF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8A00-5703-402B-AE5A-DC80FDC8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CBA-A0E1-4190-A82B-1E105738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19A-FA1E-4854-A1C3-E3818B88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C40E-1A30-4F7E-B8CE-41F6D6B3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E66-4B3B-4BBA-B5AC-10D035EF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AA7-A055-424B-A8B6-D42B8CCB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61DC-4C69-4C77-BD1A-F24A7F2769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0:51:40Z</dcterms:modified>
  <cp:revision>13</cp:revision>
  <dc:subject/>
  <dc:title>Slide 1</dc:title>
</cp:coreProperties>
</file>