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A85-1416-4677-8A84-8933D12C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244-4013-44EC-BEE2-D0616F23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2A3-D6B3-482B-A3C4-9ECE5071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E83-1575-489C-BD4F-FADB1614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F21-DEF7-43BD-AE64-4267A862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884-F8DB-49D9-B6CB-2687A053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7E4-0BBA-4B4C-B5F7-BC36D5C7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861-2D3B-4CBB-93A4-9860DABB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130-D1B2-4F62-B9AB-9AEEAA06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2CA-A37B-4DCE-8DBC-60ADC937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B1B-8191-4C2B-8865-0C35ABA2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324-0860-480B-861C-C72C4B61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A9A0-5FAA-4FD3-BE31-34E9B63765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0:50:47Z</dcterms:modified>
  <cp:revision>12</cp:revision>
  <dc:subject/>
  <dc:title>Slide 1</dc:title>
</cp:coreProperties>
</file>