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67F-76DB-42D5-AC9D-441EE707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47C-8708-4DB9-8E88-C17D9787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056-A02D-414D-9D72-675A519C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256-93B8-46BA-8276-8722BD3A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91E-5531-4178-8D06-54FE5F40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200-D374-4128-A363-DDB04F7D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02E-84D1-4E4E-8C0E-B47B3895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2CF-4753-4C24-A207-B6B1DC20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6D0-725E-4E1F-AB0E-37851AA7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C06-429C-4CDB-9388-4AF9039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E17-2A8A-4E3B-BA3D-F5E3B65B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DFC-038E-4F80-9BA0-2EA02CB5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1B85-BF27-4820-9AB7-567BC0FE10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0:49:55Z</dcterms:modified>
  <cp:revision>11</cp:revision>
  <dc:subject/>
  <dc:title>Slide 1</dc:title>
</cp:coreProperties>
</file>