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259-E859-469C-A761-3F6DE506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00D-51EA-48DB-99CD-B0B5FD3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7E8-9437-4964-99CD-28C95B46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B3E-54E9-4ACD-A675-61D7E6D9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1DF-30E7-403F-83EE-950CE296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EA7-60CE-45C4-8A18-2EEF01D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D96-047F-4164-B9A0-9F5B790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831-3713-4362-9DAC-6A5E75C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DCD-D59C-48F7-A9FD-1A20735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25F-B72F-4AAB-8D5D-7B6338A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870-11FE-4AA4-996F-F9AABEE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A3D-A263-4BFA-B9B9-9EB8969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CDB0-8CF1-4AB9-823C-4EC887394D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9:02Z</dcterms:modified>
  <cp:revision>10</cp:revision>
  <dc:subject/>
  <dc:title>Slide 1</dc:title>
</cp:coreProperties>
</file>