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4DC-F896-48B9-B84E-A80E814D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403-9F45-464F-BE11-F126555D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31D-9781-4253-A26A-F0F000F4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C99-F63E-4935-8663-369CA880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743-AC20-4E8A-8B45-D4B6B3B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00B-5A44-4085-8207-2382F41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B7F-0399-40EE-AFFF-76ED897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4C8-B53C-428B-92B1-F49981E8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FC8-F54C-4967-BA6A-57CD663C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B83-DC43-407A-9661-C8E4743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709-5CCD-478E-A5A8-47D0B2AF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D5C-FB75-4111-B177-4614460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7FC7-653B-4E15-8C03-DC152738B7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6:56Z</dcterms:modified>
  <cp:revision>8</cp:revision>
  <dc:subject/>
  <dc:title>Slide 1</dc:title>
</cp:coreProperties>
</file>