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70F-A714-4F90-8531-1B5D4F24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FFF-8B98-43B7-A686-0ACCF88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C40-2F57-4868-BA7C-92CF1F25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04C-4C46-4A0D-89F2-87A04F1D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0AA-C099-4AB1-B023-0596257F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4EC-D0CD-437E-9937-D10D2B3F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62B-8ADF-466F-9A3F-B358701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1CC-5271-43FB-B532-E4A05E39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D5F-9AF2-495C-8ECF-2C9D89AC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73E-B7B1-4F31-9B96-43EE68D4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AAB-8BE4-465F-A200-AD0E3AB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1A7-1995-475B-BDBA-5A30B7B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1781-2BDB-4C6F-A0D8-3E68737A236C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33:18Z</dcterms:created>
  <dc:creator>Online2PDF.com</dc:creator>
  <dc:description/>
  <dc:language>en-US</dc:language>
  <cp:lastModifiedBy>Online2PDF.com</cp:lastModifiedBy>
  <dcterms:modified xsi:type="dcterms:W3CDTF">2024-01-18T07:33:2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