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AAFB-850D-48AF-9C77-249590B83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FF62-E064-48A2-AC21-654E92F8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13FB-405E-47C3-B530-49D508C06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2530-77A3-4671-9B55-14DDEADE3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829E-794C-41CF-B1AD-20D5B46D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9A5C-013C-40DE-9C62-E7B514F1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CE87-492B-42B9-BA0F-CCB48BB1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D3FE-6562-4360-ABDE-75400D8C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22E8-6AD5-48B5-9E2D-019271FA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684F-96DE-4A14-BCF8-15113247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A901-9164-4069-900A-A87B9EA0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BD6E-6344-4A03-ACDA-BF466C83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1E60-0317-4F53-8457-97DAADECF52D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33:23Z</dcterms:created>
  <dc:creator>Online2PDF.com</dc:creator>
  <dc:description/>
  <dc:language>en-US</dc:language>
  <cp:lastModifiedBy>Online2PDF.com</cp:lastModifiedBy>
  <dcterms:modified xsi:type="dcterms:W3CDTF">2024-01-18T07:33:25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