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F63-86D1-4B3F-90B1-83333071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22C-836F-4E29-B3BA-B6156EA5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FB7-B035-490F-BC35-6A3095F0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9A1-ECA6-4CC1-BE6D-F28E232D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0AA-058B-4A38-A6DB-5341CFA0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631-410E-405A-8D58-0334332F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9C6-1AF5-4F43-B3AF-43E325FA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224B-266E-46C7-A37E-12CCA59D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8ED-8609-4354-8321-81338C6D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527-1E16-4D92-A458-1F969B9E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7C3-9240-4624-BC6F-D4634E8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747-AE56-4878-9619-BA4D589F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D50D-CB02-43EE-A393-1B4A370C7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625 copy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6:12:59Z</dcterms:created>
  <dc:creator>celester</dc:creator>
  <dc:description/>
  <dc:language>en-US</dc:language>
  <cp:lastModifiedBy>Ing Ming Loh</cp:lastModifiedBy>
  <dcterms:modified xsi:type="dcterms:W3CDTF">2018-10-19T01:52:38Z</dcterms:modified>
  <cp:revision>1</cp:revision>
  <dc:subject/>
  <dc:title>PowerPoint Presentation</dc:title>
</cp:coreProperties>
</file>